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7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8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8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8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8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8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8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8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8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8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48880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320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3244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2"/>
          </p:nvPr>
        </p:nvSpPr>
        <p:spPr>
          <a:xfrm>
            <a:off x="0" y="9554760"/>
            <a:ext cx="3232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3"/>
          </p:nvPr>
        </p:nvSpPr>
        <p:spPr>
          <a:xfrm>
            <a:off x="4398480" y="9554760"/>
            <a:ext cx="32324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2DD3F-76FA-4679-8E9B-46F1D9A992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54E44-CF06-4557-A1DB-479350174C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378C5-D52D-46C3-82D5-7C87D03825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520A4-015E-40F1-A166-4715592578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9C6C2-A2B8-4D42-9BE0-FC9A054D5F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ABC50-8475-465E-97A2-E070EC61B9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203DC-4612-4E42-A584-46D009B8F0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97368-E17B-4D2B-B2D2-DAAE702F85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8FBA4-D62A-442F-B1C9-3F337319AE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8B89C-721B-4B62-8120-002CBF4B45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777600" y="4772160"/>
            <a:ext cx="6078600" cy="45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5B49B-FDA6-4B8B-AAFE-92F2FFCD08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3E3E7-E49E-45B2-97A6-ADCDAE479D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1"/>
          <p:cNvSpPr/>
          <p:nvPr/>
        </p:nvSpPr>
        <p:spPr>
          <a:xfrm>
            <a:off x="1371600" y="763560"/>
            <a:ext cx="489420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DF141-047E-4F2C-99FF-6B9FB141A5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B3FBB-643C-4C2C-9B6E-12B4B6F768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10A72-3FB0-42A6-B9D3-4DF33E28AC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750E7-A7D5-4625-B6D4-D85C403C75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9A27F-5D36-40A0-914C-2052A09081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"/>
          <p:cNvSpPr/>
          <p:nvPr/>
        </p:nvSpPr>
        <p:spPr>
          <a:xfrm>
            <a:off x="1371600" y="763560"/>
            <a:ext cx="489276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1B99B-EF0F-4CEC-84A4-298EB46318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B8776-344B-4F2E-BE4F-B221C7683E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94"/>
          <p:cNvSpPr/>
          <p:nvPr/>
        </p:nvSpPr>
        <p:spPr>
          <a:xfrm>
            <a:off x="4398840" y="9555120"/>
            <a:ext cx="32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3DAFF-3A7C-433E-9F28-35474BE0A1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78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48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080" y="2225160"/>
            <a:ext cx="4748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85320" y="8427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080" y="22251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85320" y="22251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15285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57320" y="842760"/>
            <a:ext cx="15285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62920" y="842760"/>
            <a:ext cx="15285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080" y="2225160"/>
            <a:ext cx="15285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57320" y="2225160"/>
            <a:ext cx="15285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62920" y="2225160"/>
            <a:ext cx="15285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080" y="842760"/>
            <a:ext cx="47480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480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696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85320" y="842760"/>
            <a:ext cx="231696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440" y="-41760"/>
            <a:ext cx="474192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72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85320" y="842760"/>
            <a:ext cx="231696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080" y="22251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696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85320" y="8427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85320" y="22251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85320" y="842760"/>
            <a:ext cx="2316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080" y="2225160"/>
            <a:ext cx="4748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2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-41760"/>
            <a:ext cx="47419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080" y="842760"/>
            <a:ext cx="47480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9684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29700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5.wmf"/><Relationship Id="rId14" Type="http://schemas.openxmlformats.org/officeDocument/2006/relationships/image" Target="../media/image7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untry Technical Sup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September 18,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0" y="56844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122076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Connectivity/Collaboration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764240" cy="26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nectivity with other XOs and Intern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 mesh, up to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02.11b/g - via infrastructure access point, up to 20 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ejabberd on school server, 30-40 laptops per access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57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llaboration, typical session &lt;1 hou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t, 30-40 laptops can share a 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e, 2-3 laptops can collaborate on a Write 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rd, 8-10 laptops can share Record photos (sharing video is not supported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wse, 30-40 laptops can share Browse 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79440" y="90360"/>
            <a:ext cx="47577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Technology-Ongoing Phase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st-Installation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p establish and train for local repair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contacts, process, pricing for ordering spare p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appropriate sysadmin, teacher train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nectivity, 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pgrades, Backups, Power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velopment, test and community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blem tracking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calation system for OLPC bu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8080"/>
                </a:solidFill>
                <a:latin typeface="Arial"/>
              </a:rPr>
              <a:t>Escalation for problem tracking</a:t>
            </a:r>
            <a:endParaRPr b="1" lang="en-US" sz="1800" spc="-1" strike="noStrike">
              <a:solidFill>
                <a:srgbClr val="ff8080"/>
              </a:solidFill>
              <a:latin typeface="Arial"/>
            </a:endParaRPr>
          </a:p>
        </p:txBody>
      </p:sp>
      <p:grpSp>
        <p:nvGrpSpPr>
          <p:cNvPr id="273" name="Group 2"/>
          <p:cNvGrpSpPr/>
          <p:nvPr/>
        </p:nvGrpSpPr>
        <p:grpSpPr>
          <a:xfrm>
            <a:off x="1600200" y="1219320"/>
            <a:ext cx="1065240" cy="899640"/>
            <a:chOff x="1600200" y="1219320"/>
            <a:chExt cx="1065240" cy="899640"/>
          </a:xfrm>
        </p:grpSpPr>
        <p:sp>
          <p:nvSpPr>
            <p:cNvPr id="274" name="Rectangle 3"/>
            <p:cNvSpPr/>
            <p:nvPr/>
          </p:nvSpPr>
          <p:spPr>
            <a:xfrm>
              <a:off x="1600200" y="1219320"/>
              <a:ext cx="10652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Text Box 4"/>
            <p:cNvSpPr/>
            <p:nvPr/>
          </p:nvSpPr>
          <p:spPr>
            <a:xfrm>
              <a:off x="1600200" y="1294920"/>
              <a:ext cx="1065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AQ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anuals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raining Ma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Group 5"/>
          <p:cNvGrpSpPr/>
          <p:nvPr/>
        </p:nvGrpSpPr>
        <p:grpSpPr>
          <a:xfrm>
            <a:off x="1600200" y="2286000"/>
            <a:ext cx="1065240" cy="824040"/>
            <a:chOff x="1600200" y="2286000"/>
            <a:chExt cx="1065240" cy="824040"/>
          </a:xfrm>
        </p:grpSpPr>
        <p:sp>
          <p:nvSpPr>
            <p:cNvPr id="277" name="Rectangle 6"/>
            <p:cNvSpPr/>
            <p:nvPr/>
          </p:nvSpPr>
          <p:spPr>
            <a:xfrm>
              <a:off x="1600200" y="2361960"/>
              <a:ext cx="10652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 Box 7"/>
            <p:cNvSpPr/>
            <p:nvPr/>
          </p:nvSpPr>
          <p:spPr>
            <a:xfrm>
              <a:off x="1600200" y="2286000"/>
              <a:ext cx="1065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roblem tracking syste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Group 8"/>
          <p:cNvGrpSpPr/>
          <p:nvPr/>
        </p:nvGrpSpPr>
        <p:grpSpPr>
          <a:xfrm>
            <a:off x="3962520" y="2666880"/>
            <a:ext cx="1065240" cy="824040"/>
            <a:chOff x="3962520" y="2666880"/>
            <a:chExt cx="1065240" cy="824040"/>
          </a:xfrm>
        </p:grpSpPr>
        <p:sp>
          <p:nvSpPr>
            <p:cNvPr id="280" name="Rectangle 9"/>
            <p:cNvSpPr/>
            <p:nvPr/>
          </p:nvSpPr>
          <p:spPr>
            <a:xfrm>
              <a:off x="3962520" y="2742840"/>
              <a:ext cx="106524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Text Box 10"/>
            <p:cNvSpPr/>
            <p:nvPr/>
          </p:nvSpPr>
          <p:spPr>
            <a:xfrm>
              <a:off x="3962520" y="2666880"/>
              <a:ext cx="1065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"/>
                </a:rPr>
                <a:t>OLPC Problem Track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Text Box 11"/>
          <p:cNvSpPr/>
          <p:nvPr/>
        </p:nvSpPr>
        <p:spPr>
          <a:xfrm>
            <a:off x="152280" y="17524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m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12"/>
          <p:cNvSpPr/>
          <p:nvPr/>
        </p:nvSpPr>
        <p:spPr>
          <a:xfrm>
            <a:off x="2133720" y="320040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13"/>
          <p:cNvSpPr/>
          <p:nvPr/>
        </p:nvSpPr>
        <p:spPr>
          <a:xfrm>
            <a:off x="4038480" y="914400"/>
            <a:ext cx="1143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3962520" y="99072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FAQ</a:t>
            </a:r>
            <a:br>
              <a:rPr sz="1200"/>
            </a:b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Wiki Do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Release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15"/>
          <p:cNvGrpSpPr/>
          <p:nvPr/>
        </p:nvGrpSpPr>
        <p:grpSpPr>
          <a:xfrm>
            <a:off x="3505320" y="1828800"/>
            <a:ext cx="1217520" cy="684360"/>
            <a:chOff x="3505320" y="1828800"/>
            <a:chExt cx="1217520" cy="684360"/>
          </a:xfrm>
        </p:grpSpPr>
        <p:sp>
          <p:nvSpPr>
            <p:cNvPr id="287" name="Rectangle 16"/>
            <p:cNvSpPr/>
            <p:nvPr/>
          </p:nvSpPr>
          <p:spPr>
            <a:xfrm>
              <a:off x="3580920" y="1828800"/>
              <a:ext cx="106560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Text Box 17"/>
            <p:cNvSpPr/>
            <p:nvPr/>
          </p:nvSpPr>
          <p:spPr>
            <a:xfrm>
              <a:off x="3505320" y="1980720"/>
              <a:ext cx="121752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"/>
                </a:rPr>
                <a:t>Tra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ts val="1074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3333cc"/>
                  </a:solidFill>
                  <a:latin typeface="Arial"/>
                </a:rPr>
                <a:t>(SW/HW bugs)</a:t>
              </a:r>
              <a:r>
                <a:rPr b="0" lang="en-GB" sz="1000" spc="-1" strike="noStrike">
                  <a:solidFill>
                    <a:srgbClr val="3333cc"/>
                  </a:solidFill>
                  <a:latin typeface="Arial"/>
                </a:rPr>
                <a:t>‏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Line 18"/>
          <p:cNvSpPr/>
          <p:nvPr/>
        </p:nvSpPr>
        <p:spPr>
          <a:xfrm flipV="1">
            <a:off x="2743200" y="1203480"/>
            <a:ext cx="1219320" cy="336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19"/>
          <p:cNvSpPr/>
          <p:nvPr/>
        </p:nvSpPr>
        <p:spPr>
          <a:xfrm flipV="1">
            <a:off x="4267080" y="24984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20"/>
          <p:cNvSpPr/>
          <p:nvPr/>
        </p:nvSpPr>
        <p:spPr>
          <a:xfrm flipV="1">
            <a:off x="4876920" y="1584000"/>
            <a:ext cx="1440" cy="11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21"/>
          <p:cNvSpPr/>
          <p:nvPr/>
        </p:nvSpPr>
        <p:spPr>
          <a:xfrm flipV="1">
            <a:off x="2133720" y="3031920"/>
            <a:ext cx="14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22"/>
          <p:cNvSpPr/>
          <p:nvPr/>
        </p:nvSpPr>
        <p:spPr>
          <a:xfrm>
            <a:off x="3200400" y="914400"/>
            <a:ext cx="1440" cy="2514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23"/>
          <p:cNvSpPr/>
          <p:nvPr/>
        </p:nvSpPr>
        <p:spPr>
          <a:xfrm>
            <a:off x="1066680" y="2133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24"/>
          <p:cNvSpPr/>
          <p:nvPr/>
        </p:nvSpPr>
        <p:spPr>
          <a:xfrm>
            <a:off x="1828800" y="32004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scalation path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0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LPC Tech Suppo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5"/>
          <p:cNvSpPr/>
          <p:nvPr/>
        </p:nvSpPr>
        <p:spPr>
          <a:xfrm>
            <a:off x="3276720" y="838080"/>
            <a:ext cx="9144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OL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26"/>
          <p:cNvSpPr/>
          <p:nvPr/>
        </p:nvSpPr>
        <p:spPr>
          <a:xfrm>
            <a:off x="2057400" y="838080"/>
            <a:ext cx="11430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ntry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27"/>
          <p:cNvSpPr/>
          <p:nvPr/>
        </p:nvSpPr>
        <p:spPr>
          <a:xfrm flipV="1">
            <a:off x="1066680" y="1507680"/>
            <a:ext cx="457200" cy="336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28"/>
          <p:cNvSpPr/>
          <p:nvPr/>
        </p:nvSpPr>
        <p:spPr>
          <a:xfrm>
            <a:off x="2133720" y="19051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Tech Support - Countri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76424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untry’s Role for Tech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localized FAQ (based on OLPC FAQ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Network/IT documentation for country specific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ild a database for deployment and for problem tr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ck which laptop goes to which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ck laptops that have hw and sw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eep records of problems/resolutions to build knowledge 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cal teachers/administrators with info on how to track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-Mail to OLPC for problems not resolved lo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79440" y="277920"/>
            <a:ext cx="475776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Tech Support - Countri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77640" y="914400"/>
            <a:ext cx="47638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PC Role for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repair center ideas, guidelines, troubleshooting manuals an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courage use of problem tickets, local help centers, FAQ, documentation of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courage the use of volunteers and local open source development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information on customizing activities and content; loc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an Escalation path to OL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79440" y="-41400"/>
            <a:ext cx="47577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Hard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882720"/>
                <a:tab algn="l" pos="1339920"/>
                <a:tab algn="l" pos="1797120"/>
                <a:tab algn="l" pos="2254320"/>
                <a:tab algn="l" pos="2711520"/>
                <a:tab algn="l" pos="3168720"/>
                <a:tab algn="l" pos="3625920"/>
                <a:tab algn="l" pos="4083120"/>
                <a:tab algn="l" pos="4540320"/>
                <a:tab algn="l" pos="4997520"/>
                <a:tab algn="l" pos="5454720"/>
                <a:tab algn="l" pos="5911920"/>
                <a:tab algn="l" pos="6369120"/>
                <a:tab algn="l" pos="6826320"/>
                <a:tab algn="l" pos="7283520"/>
                <a:tab algn="l" pos="7740720"/>
                <a:tab algn="l" pos="8197920"/>
                <a:tab algn="l" pos="8655120"/>
                <a:tab algn="l" pos="9112320"/>
                <a:tab algn="l" pos="9115560"/>
                <a:tab algn="l" pos="9572760"/>
                <a:tab algn="l" pos="1002996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882720"/>
                <a:tab algn="l" pos="1339920"/>
                <a:tab algn="l" pos="1797120"/>
                <a:tab algn="l" pos="2254320"/>
                <a:tab algn="l" pos="2711520"/>
                <a:tab algn="l" pos="3168720"/>
                <a:tab algn="l" pos="3625920"/>
                <a:tab algn="l" pos="4083120"/>
                <a:tab algn="l" pos="4540320"/>
                <a:tab algn="l" pos="4997520"/>
                <a:tab algn="l" pos="5454720"/>
                <a:tab algn="l" pos="5911920"/>
                <a:tab algn="l" pos="6369120"/>
                <a:tab algn="l" pos="6826320"/>
                <a:tab algn="l" pos="7283520"/>
                <a:tab algn="l" pos="7740720"/>
                <a:tab algn="l" pos="8197920"/>
                <a:tab algn="l" pos="8655120"/>
                <a:tab algn="l" pos="9112320"/>
                <a:tab algn="l" pos="9115560"/>
                <a:tab algn="l" pos="9572760"/>
                <a:tab algn="l" pos="1002996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itional 1% shipped at no charge to cover 90 day breakage warra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882720"/>
                <a:tab algn="l" pos="1339920"/>
                <a:tab algn="l" pos="1797120"/>
                <a:tab algn="l" pos="2254320"/>
                <a:tab algn="l" pos="2711520"/>
                <a:tab algn="l" pos="3168720"/>
                <a:tab algn="l" pos="3625920"/>
                <a:tab algn="l" pos="4083120"/>
                <a:tab algn="l" pos="4540320"/>
                <a:tab algn="l" pos="4997520"/>
                <a:tab algn="l" pos="5454720"/>
                <a:tab algn="l" pos="5911920"/>
                <a:tab algn="l" pos="6369120"/>
                <a:tab algn="l" pos="6826320"/>
                <a:tab algn="l" pos="7283520"/>
                <a:tab algn="l" pos="7740720"/>
                <a:tab algn="l" pos="8197920"/>
                <a:tab algn="l" pos="8655120"/>
                <a:tab algn="l" pos="9112320"/>
                <a:tab algn="l" pos="9115560"/>
                <a:tab algn="l" pos="9572760"/>
                <a:tab algn="l" pos="1002996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DOA (Dead on Arrival) XOs to seed spare parts for Repair Ce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5704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882720"/>
                <a:tab algn="l" pos="1339920"/>
                <a:tab algn="l" pos="1797120"/>
                <a:tab algn="l" pos="2254320"/>
                <a:tab algn="l" pos="2711520"/>
                <a:tab algn="l" pos="3168720"/>
                <a:tab algn="l" pos="3625920"/>
                <a:tab algn="l" pos="4083120"/>
                <a:tab algn="l" pos="4540320"/>
                <a:tab algn="l" pos="4997520"/>
                <a:tab algn="l" pos="5454720"/>
                <a:tab algn="l" pos="5911920"/>
                <a:tab algn="l" pos="6369120"/>
                <a:tab algn="l" pos="6826320"/>
                <a:tab algn="l" pos="7283520"/>
                <a:tab algn="l" pos="7740720"/>
                <a:tab algn="l" pos="8197920"/>
                <a:tab algn="l" pos="8655120"/>
                <a:tab algn="l" pos="9112320"/>
                <a:tab algn="l" pos="9115560"/>
                <a:tab algn="l" pos="9572760"/>
                <a:tab algn="l" pos="1002996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c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5520"/>
                <a:tab algn="l" pos="882720"/>
                <a:tab algn="l" pos="1339920"/>
                <a:tab algn="l" pos="1797120"/>
                <a:tab algn="l" pos="2254320"/>
                <a:tab algn="l" pos="2711520"/>
                <a:tab algn="l" pos="3168720"/>
                <a:tab algn="l" pos="3625920"/>
                <a:tab algn="l" pos="4083120"/>
                <a:tab algn="l" pos="4540320"/>
                <a:tab algn="l" pos="4997520"/>
                <a:tab algn="l" pos="5454720"/>
                <a:tab algn="l" pos="5911920"/>
                <a:tab algn="l" pos="6369120"/>
                <a:tab algn="l" pos="6826320"/>
                <a:tab algn="l" pos="7283520"/>
                <a:tab algn="l" pos="7740720"/>
                <a:tab algn="l" pos="8197920"/>
                <a:tab algn="l" pos="8655120"/>
                <a:tab algn="l" pos="9112320"/>
                <a:tab algn="l" pos="9115560"/>
                <a:tab algn="l" pos="9572760"/>
                <a:tab algn="l" pos="1002996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ct OLPC if &gt;1% failure r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882720"/>
                <a:tab algn="l" pos="1339920"/>
                <a:tab algn="l" pos="1797120"/>
                <a:tab algn="l" pos="2254320"/>
                <a:tab algn="l" pos="2711520"/>
                <a:tab algn="l" pos="3168720"/>
                <a:tab algn="l" pos="3625920"/>
                <a:tab algn="l" pos="4083120"/>
                <a:tab algn="l" pos="4540320"/>
                <a:tab algn="l" pos="4997520"/>
                <a:tab algn="l" pos="5454720"/>
                <a:tab algn="l" pos="5911920"/>
                <a:tab algn="l" pos="6369120"/>
                <a:tab algn="l" pos="6826320"/>
                <a:tab algn="l" pos="7283520"/>
                <a:tab algn="l" pos="7740720"/>
                <a:tab algn="l" pos="8197920"/>
                <a:tab algn="l" pos="8655120"/>
                <a:tab algn="l" pos="9112320"/>
                <a:tab algn="l" pos="9115560"/>
                <a:tab algn="l" pos="9572760"/>
                <a:tab algn="l" pos="1002996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e. previous batteries that did not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Hard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764240" cy="26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a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LPC supplies troubleshooting documentation (English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wiki.laptop.org/go/XO_Troubleshooting_Gu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ntry supplies local repair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unt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courage Small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57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re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 Deployments: &gt;10,000 XOs direct contact with manufacturer, i.e. batteries, displays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er Deployments: work with OLPC/Brightstar for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Soft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4764240" cy="24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n sourc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ows/encourages contributions from many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proprietary or licensing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formal support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lists.laptop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wiki.laptop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Soft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PC rel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rget of 2 major releases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inue improvements in security, power management, collaboration, upgra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or or patch re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ress urgent security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5600" indent="-10944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itical bugs, Language/keyboard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Activities are developed outside of OL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ccff"/>
                </a:solidFill>
                <a:latin typeface="Arial"/>
              </a:rPr>
              <a:t>http://wiki.laptop.org/go/Re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6000"/>
              </a:lnSpc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480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54520" cy="25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act me: reuben@laptop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5704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ry Team Conta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pc-techsupport@laptop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47577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Planning for Deployment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2440" y="105876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ning in ad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ablish Country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ing and Choosing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tocol for End User Sup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57040">
              <a:lnSpc>
                <a:spcPct val="92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loyment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2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ccccff"/>
                </a:solidFill>
                <a:latin typeface="Arial"/>
              </a:rPr>
              <a:t>http://wiki.laptop.org/go/Deployment_Gu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79440" y="90360"/>
            <a:ext cx="47577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Technology-Planning Phase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ies and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oose and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nguage and Key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5704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is available in 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quipment for Char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79440" y="90360"/>
            <a:ext cx="47577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Technology Roll-out Phase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allation and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 ready to upgrade and image all X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B Up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5704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 for upgrades after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hoo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B Dr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Securit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-Activated Lapto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 keys required, no proces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rive in default condition; countries must specify need for Anti-th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-257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-Activated Laptops: Anti-theft in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ommended for &gt;5000 lapt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ivation key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ployment tech contacts must obtain activation keys and lear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ortant planning required at warehouse and at activation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4660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Connectivit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5308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5704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frastructure: Wired/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28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ale: Number of XOs in class and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1120" y="192240"/>
            <a:ext cx="466416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XO under a tre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2971800" y="914400"/>
            <a:ext cx="1325520" cy="164628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4024440" y="1828800"/>
            <a:ext cx="593280" cy="563400"/>
            <a:chOff x="4024440" y="1828800"/>
            <a:chExt cx="593280" cy="563400"/>
          </a:xfrm>
        </p:grpSpPr>
        <p:pic>
          <p:nvPicPr>
            <p:cNvPr id="154" name="Picture 4" descr=""/>
            <p:cNvPicPr/>
            <p:nvPr/>
          </p:nvPicPr>
          <p:blipFill>
            <a:blip r:embed="rId2"/>
            <a:stretch/>
          </p:blipFill>
          <p:spPr>
            <a:xfrm>
              <a:off x="4024440" y="1828800"/>
              <a:ext cx="59220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5"/>
            <p:cNvSpPr/>
            <p:nvPr/>
          </p:nvSpPr>
          <p:spPr>
            <a:xfrm>
              <a:off x="4469400" y="2084760"/>
              <a:ext cx="14832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304920" y="1905120"/>
            <a:ext cx="593640" cy="563400"/>
            <a:chOff x="304920" y="1905120"/>
            <a:chExt cx="593640" cy="563400"/>
          </a:xfrm>
        </p:grpSpPr>
        <p:pic>
          <p:nvPicPr>
            <p:cNvPr id="157" name="Picture 7" descr=""/>
            <p:cNvPicPr/>
            <p:nvPr/>
          </p:nvPicPr>
          <p:blipFill>
            <a:blip r:embed="rId3"/>
            <a:stretch/>
          </p:blipFill>
          <p:spPr>
            <a:xfrm>
              <a:off x="304920" y="1905120"/>
              <a:ext cx="59364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8"/>
            <p:cNvSpPr/>
            <p:nvPr/>
          </p:nvSpPr>
          <p:spPr>
            <a:xfrm>
              <a:off x="749880" y="2161080"/>
              <a:ext cx="14832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1828800" y="1949400"/>
            <a:ext cx="592200" cy="563760"/>
            <a:chOff x="1828800" y="1949400"/>
            <a:chExt cx="592200" cy="563760"/>
          </a:xfrm>
        </p:grpSpPr>
        <p:pic>
          <p:nvPicPr>
            <p:cNvPr id="160" name="Picture 10" descr=""/>
            <p:cNvPicPr/>
            <p:nvPr/>
          </p:nvPicPr>
          <p:blipFill>
            <a:blip r:embed="rId4"/>
            <a:stretch/>
          </p:blipFill>
          <p:spPr>
            <a:xfrm>
              <a:off x="1828800" y="1949400"/>
              <a:ext cx="59220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Rectangle 11"/>
            <p:cNvSpPr/>
            <p:nvPr/>
          </p:nvSpPr>
          <p:spPr>
            <a:xfrm>
              <a:off x="2272320" y="2206080"/>
              <a:ext cx="14832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Group 12"/>
          <p:cNvGrpSpPr/>
          <p:nvPr/>
        </p:nvGrpSpPr>
        <p:grpSpPr>
          <a:xfrm>
            <a:off x="3932280" y="2468520"/>
            <a:ext cx="593280" cy="563760"/>
            <a:chOff x="3932280" y="2468520"/>
            <a:chExt cx="593280" cy="563760"/>
          </a:xfrm>
        </p:grpSpPr>
        <p:pic>
          <p:nvPicPr>
            <p:cNvPr id="163" name="Picture 13" descr=""/>
            <p:cNvPicPr/>
            <p:nvPr/>
          </p:nvPicPr>
          <p:blipFill>
            <a:blip r:embed="rId5"/>
            <a:stretch/>
          </p:blipFill>
          <p:spPr>
            <a:xfrm>
              <a:off x="3932280" y="2468520"/>
              <a:ext cx="59184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Rectangle 14"/>
            <p:cNvSpPr/>
            <p:nvPr/>
          </p:nvSpPr>
          <p:spPr>
            <a:xfrm>
              <a:off x="4376880" y="2724840"/>
              <a:ext cx="148680" cy="14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Group 15"/>
          <p:cNvGrpSpPr/>
          <p:nvPr/>
        </p:nvGrpSpPr>
        <p:grpSpPr>
          <a:xfrm>
            <a:off x="3246480" y="2606760"/>
            <a:ext cx="593280" cy="563400"/>
            <a:chOff x="3246480" y="2606760"/>
            <a:chExt cx="593280" cy="563400"/>
          </a:xfrm>
        </p:grpSpPr>
        <p:pic>
          <p:nvPicPr>
            <p:cNvPr id="166" name="Picture 16" descr=""/>
            <p:cNvPicPr/>
            <p:nvPr/>
          </p:nvPicPr>
          <p:blipFill>
            <a:blip r:embed="rId6"/>
            <a:stretch/>
          </p:blipFill>
          <p:spPr>
            <a:xfrm>
              <a:off x="3246480" y="2606760"/>
              <a:ext cx="59184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Rectangle 17"/>
            <p:cNvSpPr/>
            <p:nvPr/>
          </p:nvSpPr>
          <p:spPr>
            <a:xfrm>
              <a:off x="3691080" y="2862720"/>
              <a:ext cx="14868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18"/>
          <p:cNvGrpSpPr/>
          <p:nvPr/>
        </p:nvGrpSpPr>
        <p:grpSpPr>
          <a:xfrm>
            <a:off x="4525920" y="2103480"/>
            <a:ext cx="593640" cy="563400"/>
            <a:chOff x="4525920" y="2103480"/>
            <a:chExt cx="593640" cy="563400"/>
          </a:xfrm>
        </p:grpSpPr>
        <p:pic>
          <p:nvPicPr>
            <p:cNvPr id="169" name="Picture 19" descr=""/>
            <p:cNvPicPr/>
            <p:nvPr/>
          </p:nvPicPr>
          <p:blipFill>
            <a:blip r:embed="rId7"/>
            <a:stretch/>
          </p:blipFill>
          <p:spPr>
            <a:xfrm>
              <a:off x="4525920" y="2103480"/>
              <a:ext cx="593640" cy="5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Rectangle 20"/>
            <p:cNvSpPr/>
            <p:nvPr/>
          </p:nvSpPr>
          <p:spPr>
            <a:xfrm>
              <a:off x="4970520" y="2359440"/>
              <a:ext cx="14868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21"/>
          <p:cNvSpPr/>
          <p:nvPr/>
        </p:nvSpPr>
        <p:spPr>
          <a:xfrm>
            <a:off x="457200" y="914400"/>
            <a:ext cx="18288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Up to 10 laptops per mesh channel (3 channels) can collaborate with no wireless infrastructu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2"/>
          <p:cNvSpPr/>
          <p:nvPr/>
        </p:nvSpPr>
        <p:spPr>
          <a:xfrm>
            <a:off x="990720" y="220968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3"/>
          <p:cNvSpPr/>
          <p:nvPr/>
        </p:nvSpPr>
        <p:spPr>
          <a:xfrm>
            <a:off x="2514600" y="22860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1120" y="200160"/>
            <a:ext cx="466416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XO with AP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1050840" cy="787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2201760" y="2384280"/>
            <a:ext cx="335160" cy="3589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2430360" y="2384280"/>
            <a:ext cx="5493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P/Route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2057760" y="2743200"/>
            <a:ext cx="2624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H1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 flipH="1" flipV="1">
            <a:off x="1820880" y="2550600"/>
            <a:ext cx="396720" cy="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7"/>
          <p:cNvGrpSpPr/>
          <p:nvPr/>
        </p:nvGrpSpPr>
        <p:grpSpPr>
          <a:xfrm>
            <a:off x="3521160" y="914400"/>
            <a:ext cx="1506240" cy="563400"/>
            <a:chOff x="3521160" y="914400"/>
            <a:chExt cx="1506240" cy="563400"/>
          </a:xfrm>
        </p:grpSpPr>
        <p:grpSp>
          <p:nvGrpSpPr>
            <p:cNvPr id="181" name="Group 8"/>
            <p:cNvGrpSpPr/>
            <p:nvPr/>
          </p:nvGrpSpPr>
          <p:grpSpPr>
            <a:xfrm>
              <a:off x="3521160" y="914400"/>
              <a:ext cx="592200" cy="563400"/>
              <a:chOff x="3521160" y="914400"/>
              <a:chExt cx="592200" cy="563400"/>
            </a:xfrm>
          </p:grpSpPr>
          <p:pic>
            <p:nvPicPr>
              <p:cNvPr id="182" name="Pictur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521160" y="914400"/>
                <a:ext cx="5922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Rectangle 10"/>
              <p:cNvSpPr/>
              <p:nvPr/>
            </p:nvSpPr>
            <p:spPr>
              <a:xfrm>
                <a:off x="3964320" y="11703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11"/>
            <p:cNvGrpSpPr/>
            <p:nvPr/>
          </p:nvGrpSpPr>
          <p:grpSpPr>
            <a:xfrm>
              <a:off x="3978360" y="914400"/>
              <a:ext cx="592200" cy="563400"/>
              <a:chOff x="3978360" y="914400"/>
              <a:chExt cx="592200" cy="563400"/>
            </a:xfrm>
          </p:grpSpPr>
          <p:pic>
            <p:nvPicPr>
              <p:cNvPr id="185" name="Pictu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978360" y="914400"/>
                <a:ext cx="5922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Rectangle 13"/>
              <p:cNvSpPr/>
              <p:nvPr/>
            </p:nvSpPr>
            <p:spPr>
              <a:xfrm>
                <a:off x="4421520" y="11703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4"/>
            <p:cNvGrpSpPr/>
            <p:nvPr/>
          </p:nvGrpSpPr>
          <p:grpSpPr>
            <a:xfrm>
              <a:off x="4433760" y="914400"/>
              <a:ext cx="593640" cy="563400"/>
              <a:chOff x="4433760" y="914400"/>
              <a:chExt cx="593640" cy="563400"/>
            </a:xfrm>
          </p:grpSpPr>
          <p:pic>
            <p:nvPicPr>
              <p:cNvPr id="188" name="Pictur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4433760" y="914400"/>
                <a:ext cx="59256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Rectangle 16"/>
              <p:cNvSpPr/>
              <p:nvPr/>
            </p:nvSpPr>
            <p:spPr>
              <a:xfrm>
                <a:off x="4878720" y="11703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7"/>
          <p:cNvGrpSpPr/>
          <p:nvPr/>
        </p:nvGrpSpPr>
        <p:grpSpPr>
          <a:xfrm>
            <a:off x="3490920" y="1477800"/>
            <a:ext cx="1506600" cy="563760"/>
            <a:chOff x="3490920" y="1477800"/>
            <a:chExt cx="1506600" cy="563760"/>
          </a:xfrm>
        </p:grpSpPr>
        <p:grpSp>
          <p:nvGrpSpPr>
            <p:cNvPr id="191" name="Group 18"/>
            <p:cNvGrpSpPr/>
            <p:nvPr/>
          </p:nvGrpSpPr>
          <p:grpSpPr>
            <a:xfrm>
              <a:off x="3490920" y="1477800"/>
              <a:ext cx="593280" cy="563760"/>
              <a:chOff x="3490920" y="1477800"/>
              <a:chExt cx="593280" cy="563760"/>
            </a:xfrm>
          </p:grpSpPr>
          <p:pic>
            <p:nvPicPr>
              <p:cNvPr id="192" name="Picture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3490920" y="1477800"/>
                <a:ext cx="59184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Rectangle 20"/>
              <p:cNvSpPr/>
              <p:nvPr/>
            </p:nvSpPr>
            <p:spPr>
              <a:xfrm>
                <a:off x="3935520" y="173448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3948120" y="1477800"/>
              <a:ext cx="592200" cy="563760"/>
              <a:chOff x="3948120" y="1477800"/>
              <a:chExt cx="592200" cy="563760"/>
            </a:xfrm>
          </p:grpSpPr>
          <p:pic>
            <p:nvPicPr>
              <p:cNvPr id="195" name="Picture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3948120" y="1477800"/>
                <a:ext cx="5922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Rectangle 23"/>
              <p:cNvSpPr/>
              <p:nvPr/>
            </p:nvSpPr>
            <p:spPr>
              <a:xfrm>
                <a:off x="4391640" y="1734480"/>
                <a:ext cx="14832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24"/>
            <p:cNvGrpSpPr/>
            <p:nvPr/>
          </p:nvGrpSpPr>
          <p:grpSpPr>
            <a:xfrm>
              <a:off x="4405320" y="1477800"/>
              <a:ext cx="592200" cy="563760"/>
              <a:chOff x="4405320" y="1477800"/>
              <a:chExt cx="592200" cy="563760"/>
            </a:xfrm>
          </p:grpSpPr>
          <p:pic>
            <p:nvPicPr>
              <p:cNvPr id="198" name="Picture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4405320" y="1477800"/>
                <a:ext cx="5922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Rectangle 26"/>
              <p:cNvSpPr/>
              <p:nvPr/>
            </p:nvSpPr>
            <p:spPr>
              <a:xfrm>
                <a:off x="4848840" y="1734480"/>
                <a:ext cx="14832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27"/>
          <p:cNvGrpSpPr/>
          <p:nvPr/>
        </p:nvGrpSpPr>
        <p:grpSpPr>
          <a:xfrm>
            <a:off x="3124080" y="1981080"/>
            <a:ext cx="1508400" cy="563760"/>
            <a:chOff x="3124080" y="1981080"/>
            <a:chExt cx="1508400" cy="563760"/>
          </a:xfrm>
        </p:grpSpPr>
        <p:grpSp>
          <p:nvGrpSpPr>
            <p:cNvPr id="201" name="Group 28"/>
            <p:cNvGrpSpPr/>
            <p:nvPr/>
          </p:nvGrpSpPr>
          <p:grpSpPr>
            <a:xfrm>
              <a:off x="3124080" y="1981080"/>
              <a:ext cx="594000" cy="563760"/>
              <a:chOff x="3124080" y="1981080"/>
              <a:chExt cx="594000" cy="563760"/>
            </a:xfrm>
          </p:grpSpPr>
          <p:pic>
            <p:nvPicPr>
              <p:cNvPr id="202" name="Picture 29" descr=""/>
              <p:cNvPicPr/>
              <p:nvPr/>
            </p:nvPicPr>
            <p:blipFill>
              <a:blip r:embed="rId9"/>
              <a:stretch/>
            </p:blipFill>
            <p:spPr>
              <a:xfrm>
                <a:off x="3124080" y="1981080"/>
                <a:ext cx="5940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Rectangle 30"/>
              <p:cNvSpPr/>
              <p:nvPr/>
            </p:nvSpPr>
            <p:spPr>
              <a:xfrm>
                <a:off x="3569040" y="22377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31"/>
            <p:cNvGrpSpPr/>
            <p:nvPr/>
          </p:nvGrpSpPr>
          <p:grpSpPr>
            <a:xfrm>
              <a:off x="3581280" y="1981080"/>
              <a:ext cx="594000" cy="563760"/>
              <a:chOff x="3581280" y="1981080"/>
              <a:chExt cx="594000" cy="563760"/>
            </a:xfrm>
          </p:grpSpPr>
          <p:pic>
            <p:nvPicPr>
              <p:cNvPr id="205" name="Pictur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3581280" y="1981080"/>
                <a:ext cx="5940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Rectangle 33"/>
              <p:cNvSpPr/>
              <p:nvPr/>
            </p:nvSpPr>
            <p:spPr>
              <a:xfrm>
                <a:off x="4026240" y="22377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34"/>
            <p:cNvGrpSpPr/>
            <p:nvPr/>
          </p:nvGrpSpPr>
          <p:grpSpPr>
            <a:xfrm>
              <a:off x="4038480" y="1981080"/>
              <a:ext cx="594000" cy="563760"/>
              <a:chOff x="4038480" y="1981080"/>
              <a:chExt cx="594000" cy="563760"/>
            </a:xfrm>
          </p:grpSpPr>
          <p:pic>
            <p:nvPicPr>
              <p:cNvPr id="208" name="Picture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4038480" y="1981080"/>
                <a:ext cx="5940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Rectangle 36"/>
              <p:cNvSpPr/>
              <p:nvPr/>
            </p:nvSpPr>
            <p:spPr>
              <a:xfrm>
                <a:off x="4483440" y="223776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Text Box 37"/>
          <p:cNvSpPr/>
          <p:nvPr/>
        </p:nvSpPr>
        <p:spPr>
          <a:xfrm>
            <a:off x="0" y="914400"/>
            <a:ext cx="3657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Up to 20 Laptops / Access Poi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More than 60 laptops and 3 Access Points requires site survey and carefully designed infrastructu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XO with XS Serve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1568520" y="2179800"/>
            <a:ext cx="777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XS</a:t>
            </a:r>
            <a:br>
              <a:rPr sz="700"/>
            </a:b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chool Serve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 flipH="1" flipV="1">
            <a:off x="1369800" y="1157040"/>
            <a:ext cx="16956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1143000" y="2743200"/>
            <a:ext cx="1508040" cy="561960"/>
            <a:chOff x="1143000" y="2743200"/>
            <a:chExt cx="1508040" cy="561960"/>
          </a:xfrm>
        </p:grpSpPr>
        <p:grpSp>
          <p:nvGrpSpPr>
            <p:cNvPr id="215" name="Group 5"/>
            <p:cNvGrpSpPr/>
            <p:nvPr/>
          </p:nvGrpSpPr>
          <p:grpSpPr>
            <a:xfrm>
              <a:off x="1143000" y="2743200"/>
              <a:ext cx="593640" cy="561960"/>
              <a:chOff x="1143000" y="2743200"/>
              <a:chExt cx="593640" cy="561960"/>
            </a:xfrm>
          </p:grpSpPr>
          <p:pic>
            <p:nvPicPr>
              <p:cNvPr id="216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743200"/>
                <a:ext cx="593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Rectangle 7"/>
              <p:cNvSpPr/>
              <p:nvPr/>
            </p:nvSpPr>
            <p:spPr>
              <a:xfrm>
                <a:off x="1587600" y="299952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8"/>
            <p:cNvGrpSpPr/>
            <p:nvPr/>
          </p:nvGrpSpPr>
          <p:grpSpPr>
            <a:xfrm>
              <a:off x="1600200" y="2743200"/>
              <a:ext cx="593640" cy="561960"/>
              <a:chOff x="1600200" y="2743200"/>
              <a:chExt cx="593640" cy="561960"/>
            </a:xfrm>
          </p:grpSpPr>
          <p:pic>
            <p:nvPicPr>
              <p:cNvPr id="219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600200" y="2743200"/>
                <a:ext cx="593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Rectangle 10"/>
              <p:cNvSpPr/>
              <p:nvPr/>
            </p:nvSpPr>
            <p:spPr>
              <a:xfrm>
                <a:off x="2044800" y="299952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11"/>
            <p:cNvGrpSpPr/>
            <p:nvPr/>
          </p:nvGrpSpPr>
          <p:grpSpPr>
            <a:xfrm>
              <a:off x="2057400" y="2743200"/>
              <a:ext cx="593640" cy="561960"/>
              <a:chOff x="2057400" y="2743200"/>
              <a:chExt cx="593640" cy="561960"/>
            </a:xfrm>
          </p:grpSpPr>
          <p:pic>
            <p:nvPicPr>
              <p:cNvPr id="222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057400" y="2743200"/>
                <a:ext cx="593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Rectangle 13"/>
              <p:cNvSpPr/>
              <p:nvPr/>
            </p:nvSpPr>
            <p:spPr>
              <a:xfrm>
                <a:off x="2502000" y="299952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Group 14"/>
          <p:cNvGrpSpPr/>
          <p:nvPr/>
        </p:nvGrpSpPr>
        <p:grpSpPr>
          <a:xfrm>
            <a:off x="3549600" y="1630440"/>
            <a:ext cx="1508040" cy="563400"/>
            <a:chOff x="3549600" y="1630440"/>
            <a:chExt cx="1508040" cy="563400"/>
          </a:xfrm>
        </p:grpSpPr>
        <p:grpSp>
          <p:nvGrpSpPr>
            <p:cNvPr id="225" name="Group 15"/>
            <p:cNvGrpSpPr/>
            <p:nvPr/>
          </p:nvGrpSpPr>
          <p:grpSpPr>
            <a:xfrm>
              <a:off x="3549600" y="1630440"/>
              <a:ext cx="593640" cy="563400"/>
              <a:chOff x="3549600" y="1630440"/>
              <a:chExt cx="593640" cy="563400"/>
            </a:xfrm>
          </p:grpSpPr>
          <p:pic>
            <p:nvPicPr>
              <p:cNvPr id="226" name="Pictur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3549600" y="1630440"/>
                <a:ext cx="5936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Rectangle 17"/>
              <p:cNvSpPr/>
              <p:nvPr/>
            </p:nvSpPr>
            <p:spPr>
              <a:xfrm>
                <a:off x="3994200" y="188640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18"/>
            <p:cNvGrpSpPr/>
            <p:nvPr/>
          </p:nvGrpSpPr>
          <p:grpSpPr>
            <a:xfrm>
              <a:off x="4006800" y="1630440"/>
              <a:ext cx="593640" cy="563400"/>
              <a:chOff x="4006800" y="1630440"/>
              <a:chExt cx="593640" cy="563400"/>
            </a:xfrm>
          </p:grpSpPr>
          <p:pic>
            <p:nvPicPr>
              <p:cNvPr id="229" name="Picture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4006800" y="1630440"/>
                <a:ext cx="5936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Rectangle 20"/>
              <p:cNvSpPr/>
              <p:nvPr/>
            </p:nvSpPr>
            <p:spPr>
              <a:xfrm>
                <a:off x="4451400" y="188640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21"/>
            <p:cNvGrpSpPr/>
            <p:nvPr/>
          </p:nvGrpSpPr>
          <p:grpSpPr>
            <a:xfrm>
              <a:off x="4464000" y="1630440"/>
              <a:ext cx="593640" cy="563400"/>
              <a:chOff x="4464000" y="1630440"/>
              <a:chExt cx="593640" cy="563400"/>
            </a:xfrm>
          </p:grpSpPr>
          <p:pic>
            <p:nvPicPr>
              <p:cNvPr id="232" name="Pictur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4464000" y="1630440"/>
                <a:ext cx="5936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Rectangle 23"/>
              <p:cNvSpPr/>
              <p:nvPr/>
            </p:nvSpPr>
            <p:spPr>
              <a:xfrm>
                <a:off x="4908600" y="188640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Group 24"/>
          <p:cNvGrpSpPr/>
          <p:nvPr/>
        </p:nvGrpSpPr>
        <p:grpSpPr>
          <a:xfrm>
            <a:off x="3505320" y="2224080"/>
            <a:ext cx="1506240" cy="563400"/>
            <a:chOff x="3505320" y="2224080"/>
            <a:chExt cx="1506240" cy="563400"/>
          </a:xfrm>
        </p:grpSpPr>
        <p:grpSp>
          <p:nvGrpSpPr>
            <p:cNvPr id="235" name="Group 25"/>
            <p:cNvGrpSpPr/>
            <p:nvPr/>
          </p:nvGrpSpPr>
          <p:grpSpPr>
            <a:xfrm>
              <a:off x="3505320" y="2224080"/>
              <a:ext cx="593280" cy="563400"/>
              <a:chOff x="3505320" y="2224080"/>
              <a:chExt cx="593280" cy="563400"/>
            </a:xfrm>
          </p:grpSpPr>
          <p:pic>
            <p:nvPicPr>
              <p:cNvPr id="236" name="Pictur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3505320" y="2224080"/>
                <a:ext cx="5922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Rectangle 27"/>
              <p:cNvSpPr/>
              <p:nvPr/>
            </p:nvSpPr>
            <p:spPr>
              <a:xfrm>
                <a:off x="3950280" y="2480040"/>
                <a:ext cx="14832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28"/>
            <p:cNvGrpSpPr/>
            <p:nvPr/>
          </p:nvGrpSpPr>
          <p:grpSpPr>
            <a:xfrm>
              <a:off x="3962520" y="2224080"/>
              <a:ext cx="591840" cy="563400"/>
              <a:chOff x="3962520" y="2224080"/>
              <a:chExt cx="591840" cy="563400"/>
            </a:xfrm>
          </p:grpSpPr>
          <p:pic>
            <p:nvPicPr>
              <p:cNvPr id="239" name="Picture 29" descr=""/>
              <p:cNvPicPr/>
              <p:nvPr/>
            </p:nvPicPr>
            <p:blipFill>
              <a:blip r:embed="rId8"/>
              <a:stretch/>
            </p:blipFill>
            <p:spPr>
              <a:xfrm>
                <a:off x="3962520" y="2224080"/>
                <a:ext cx="5918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Rectangle 30"/>
              <p:cNvSpPr/>
              <p:nvPr/>
            </p:nvSpPr>
            <p:spPr>
              <a:xfrm>
                <a:off x="4405320" y="2480040"/>
                <a:ext cx="14868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31"/>
            <p:cNvGrpSpPr/>
            <p:nvPr/>
          </p:nvGrpSpPr>
          <p:grpSpPr>
            <a:xfrm>
              <a:off x="4419720" y="2224080"/>
              <a:ext cx="591840" cy="563400"/>
              <a:chOff x="4419720" y="2224080"/>
              <a:chExt cx="591840" cy="563400"/>
            </a:xfrm>
          </p:grpSpPr>
          <p:pic>
            <p:nvPicPr>
              <p:cNvPr id="242" name="Picture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4419720" y="2224080"/>
                <a:ext cx="5918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Rectangle 33"/>
              <p:cNvSpPr/>
              <p:nvPr/>
            </p:nvSpPr>
            <p:spPr>
              <a:xfrm>
                <a:off x="4862520" y="2480040"/>
                <a:ext cx="14868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44" name="Group 34"/>
          <p:cNvGrpSpPr/>
          <p:nvPr/>
        </p:nvGrpSpPr>
        <p:grpSpPr>
          <a:xfrm>
            <a:off x="2971800" y="2863800"/>
            <a:ext cx="1506600" cy="563760"/>
            <a:chOff x="2971800" y="2863800"/>
            <a:chExt cx="1506600" cy="563760"/>
          </a:xfrm>
        </p:grpSpPr>
        <p:grpSp>
          <p:nvGrpSpPr>
            <p:cNvPr id="245" name="Group 35"/>
            <p:cNvGrpSpPr/>
            <p:nvPr/>
          </p:nvGrpSpPr>
          <p:grpSpPr>
            <a:xfrm>
              <a:off x="2971800" y="2863800"/>
              <a:ext cx="593280" cy="563760"/>
              <a:chOff x="2971800" y="2863800"/>
              <a:chExt cx="593280" cy="563760"/>
            </a:xfrm>
          </p:grpSpPr>
          <p:pic>
            <p:nvPicPr>
              <p:cNvPr id="246" name="Picture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2971800" y="2863800"/>
                <a:ext cx="59184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Rectangle 37"/>
              <p:cNvSpPr/>
              <p:nvPr/>
            </p:nvSpPr>
            <p:spPr>
              <a:xfrm>
                <a:off x="3416400" y="3120480"/>
                <a:ext cx="14868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38"/>
            <p:cNvGrpSpPr/>
            <p:nvPr/>
          </p:nvGrpSpPr>
          <p:grpSpPr>
            <a:xfrm>
              <a:off x="3429000" y="2863800"/>
              <a:ext cx="592200" cy="563760"/>
              <a:chOff x="3429000" y="2863800"/>
              <a:chExt cx="592200" cy="563760"/>
            </a:xfrm>
          </p:grpSpPr>
          <p:pic>
            <p:nvPicPr>
              <p:cNvPr id="249" name="Picture 39" descr=""/>
              <p:cNvPicPr/>
              <p:nvPr/>
            </p:nvPicPr>
            <p:blipFill>
              <a:blip r:embed="rId11"/>
              <a:stretch/>
            </p:blipFill>
            <p:spPr>
              <a:xfrm>
                <a:off x="3429000" y="2863800"/>
                <a:ext cx="5922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Rectangle 40"/>
              <p:cNvSpPr/>
              <p:nvPr/>
            </p:nvSpPr>
            <p:spPr>
              <a:xfrm>
                <a:off x="3872520" y="3120480"/>
                <a:ext cx="14832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41"/>
            <p:cNvGrpSpPr/>
            <p:nvPr/>
          </p:nvGrpSpPr>
          <p:grpSpPr>
            <a:xfrm>
              <a:off x="3886200" y="2863800"/>
              <a:ext cx="592200" cy="563760"/>
              <a:chOff x="3886200" y="2863800"/>
              <a:chExt cx="592200" cy="563760"/>
            </a:xfrm>
          </p:grpSpPr>
          <p:pic>
            <p:nvPicPr>
              <p:cNvPr id="252" name="Picture 42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86200" y="2863800"/>
                <a:ext cx="59220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Rectangle 43"/>
              <p:cNvSpPr/>
              <p:nvPr/>
            </p:nvSpPr>
            <p:spPr>
              <a:xfrm>
                <a:off x="4329720" y="3120480"/>
                <a:ext cx="148320" cy="14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54" name="Picture 44" descr=""/>
          <p:cNvPicPr/>
          <p:nvPr/>
        </p:nvPicPr>
        <p:blipFill>
          <a:blip r:embed="rId13"/>
          <a:stretch/>
        </p:blipFill>
        <p:spPr>
          <a:xfrm>
            <a:off x="685800" y="1158840"/>
            <a:ext cx="1052640" cy="785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5" descr=""/>
          <p:cNvPicPr/>
          <p:nvPr/>
        </p:nvPicPr>
        <p:blipFill>
          <a:blip r:embed="rId14"/>
          <a:stretch/>
        </p:blipFill>
        <p:spPr>
          <a:xfrm>
            <a:off x="1752480" y="1676520"/>
            <a:ext cx="611280" cy="639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6" descr=""/>
          <p:cNvPicPr/>
          <p:nvPr/>
        </p:nvPicPr>
        <p:blipFill>
          <a:blip r:embed="rId15"/>
          <a:stretch/>
        </p:blipFill>
        <p:spPr>
          <a:xfrm>
            <a:off x="2529000" y="1173240"/>
            <a:ext cx="334800" cy="360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7" descr=""/>
          <p:cNvPicPr/>
          <p:nvPr/>
        </p:nvPicPr>
        <p:blipFill>
          <a:blip r:embed="rId16"/>
          <a:stretch/>
        </p:blipFill>
        <p:spPr>
          <a:xfrm>
            <a:off x="2849400" y="1676520"/>
            <a:ext cx="333360" cy="3585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8" descr=""/>
          <p:cNvPicPr/>
          <p:nvPr/>
        </p:nvPicPr>
        <p:blipFill>
          <a:blip r:embed="rId17"/>
          <a:stretch/>
        </p:blipFill>
        <p:spPr>
          <a:xfrm>
            <a:off x="2666880" y="2179800"/>
            <a:ext cx="333360" cy="358560"/>
          </a:xfrm>
          <a:prstGeom prst="rect">
            <a:avLst/>
          </a:prstGeom>
          <a:ln w="0">
            <a:noFill/>
          </a:ln>
        </p:spPr>
      </p:pic>
      <p:sp>
        <p:nvSpPr>
          <p:cNvPr id="259" name="Line 49"/>
          <p:cNvSpPr/>
          <p:nvPr/>
        </p:nvSpPr>
        <p:spPr>
          <a:xfrm flipV="1">
            <a:off x="2163600" y="1477800"/>
            <a:ext cx="41148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50"/>
          <p:cNvSpPr/>
          <p:nvPr/>
        </p:nvSpPr>
        <p:spPr>
          <a:xfrm flipV="1">
            <a:off x="2209680" y="1889280"/>
            <a:ext cx="68580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51"/>
          <p:cNvSpPr/>
          <p:nvPr/>
        </p:nvSpPr>
        <p:spPr>
          <a:xfrm>
            <a:off x="2209680" y="2087640"/>
            <a:ext cx="54792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52"/>
          <p:cNvSpPr/>
          <p:nvPr/>
        </p:nvSpPr>
        <p:spPr>
          <a:xfrm>
            <a:off x="2757600" y="1173240"/>
            <a:ext cx="32040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53"/>
          <p:cNvSpPr/>
          <p:nvPr/>
        </p:nvSpPr>
        <p:spPr>
          <a:xfrm>
            <a:off x="2483280" y="1494000"/>
            <a:ext cx="2624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H1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54"/>
          <p:cNvSpPr/>
          <p:nvPr/>
        </p:nvSpPr>
        <p:spPr>
          <a:xfrm>
            <a:off x="2804040" y="1996920"/>
            <a:ext cx="2624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H6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55"/>
          <p:cNvSpPr/>
          <p:nvPr/>
        </p:nvSpPr>
        <p:spPr>
          <a:xfrm>
            <a:off x="2575440" y="2500200"/>
            <a:ext cx="30528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H11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56"/>
          <p:cNvSpPr/>
          <p:nvPr/>
        </p:nvSpPr>
        <p:spPr>
          <a:xfrm flipH="1" flipV="1">
            <a:off x="1507680" y="1523880"/>
            <a:ext cx="39708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7"/>
          <p:cNvSpPr/>
          <p:nvPr/>
        </p:nvSpPr>
        <p:spPr>
          <a:xfrm>
            <a:off x="3063960" y="620640"/>
            <a:ext cx="28796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Up to 30-40 laptops per A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Up to 300 laptops per school server.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Requires RF site survey and carefully designed infrastructu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 </cp:lastModifiedBy>
  <dcterms:modified xsi:type="dcterms:W3CDTF">2008-09-18T17:58:25Z</dcterms:modified>
  <cp:revision>1</cp:revision>
  <dc:subject/>
  <dc:title>One Laptop per Child</dc:title>
</cp:coreProperties>
</file>